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475-CBA1-4C2F-86F3-F77091FF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DF7-FAB7-4101-BC8D-4A0FBF04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848-BE49-42FA-9C5D-95652F4C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4CF-4614-4380-9F4F-4DB68ED6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296-05D6-4830-A44E-A47FF906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69C-56F4-4F92-918B-11FC9681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70E-BCA0-4545-B185-ED24525C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2D0-BA41-4619-A429-6FCF3A5C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E6D-DB3B-4A03-BF75-879CFF08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109-9D84-4E29-8541-BA37E43C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0F7-0A13-435D-9B8A-824380F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739-148B-4795-8A38-0AC477A7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2F0-1527-4E43-89BB-7B1AED42D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__  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8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hora va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 </a:t>
            </a:r>
            <a:r>
              <a:rPr b="1" lang="es-ES_tradnl" sz="3200" spc="-1" strike="noStrike">
                <a:solidFill>
                  <a:srgbClr val="0070c0"/>
                </a:solidFill>
                <a:latin typeface="Arial"/>
              </a:rPr>
              <a:t>A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 la palabra correc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"/>
              </a:rPr>
              <a:t>B.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Sac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2. Escuchar   3. Tom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4.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52280" y="2611440"/>
            <a:ext cx="3200400" cy="2265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981080" y="3429000"/>
            <a:ext cx="68580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1590480" cy="131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4"/>
          <a:stretch/>
        </p:blipFill>
        <p:spPr>
          <a:xfrm>
            <a:off x="6934320" y="2666880"/>
            <a:ext cx="190476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es esco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130176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7364520" y="1447920"/>
            <a:ext cx="109368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1676520" y="1752480"/>
            <a:ext cx="1685880" cy="1544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76320" y="3505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828800" y="323064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86200" y="28195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429000" y="3352680"/>
            <a:ext cx="1676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lígra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562720" y="3200400"/>
            <a:ext cx="1143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7086600" y="312408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"/>
          <p:cNvPicPr/>
          <p:nvPr/>
        </p:nvPicPr>
        <p:blipFill>
          <a:blip r:embed="rId6"/>
          <a:stretch/>
        </p:blipFill>
        <p:spPr>
          <a:xfrm>
            <a:off x="76320" y="4038480"/>
            <a:ext cx="1828800" cy="178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7"/>
          <a:stretch/>
        </p:blipFill>
        <p:spPr>
          <a:xfrm>
            <a:off x="189540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152280" y="59738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rp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"/>
          <p:cNvPicPr/>
          <p:nvPr/>
        </p:nvPicPr>
        <p:blipFill>
          <a:blip r:embed="rId8"/>
          <a:stretch/>
        </p:blipFill>
        <p:spPr>
          <a:xfrm>
            <a:off x="4648320" y="4203720"/>
            <a:ext cx="160020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9"/>
          <a:stretch/>
        </p:blipFill>
        <p:spPr>
          <a:xfrm>
            <a:off x="7105680" y="3809880"/>
            <a:ext cx="1504800" cy="2009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0"/>
          <p:cNvSpPr/>
          <p:nvPr/>
        </p:nvSpPr>
        <p:spPr>
          <a:xfrm>
            <a:off x="4572000" y="56689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rrador / G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7086600" y="58975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p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verbos “YO”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R, DAR y 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r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g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of the most irregular verbs in the Spanish language.  It is a verb you must memor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Da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gi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s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b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feeling, location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jugated in the same way as regular –AR verbs in all forms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35268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429000" y="4129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505320" y="4572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0400" y="50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352680" y="5486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4290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257800" y="5500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5334120" y="4129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410080" y="4586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5029200" y="50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25780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2578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934320" y="3672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010280" y="4114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086600" y="4572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705720" y="5029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6858000" y="5500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6934320" y="5867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5257800" y="32907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r        </a:t>
            </a: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r</a:t>
            </a: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La preposición “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“to, toward”. This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follows the verb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“i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When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ollowed by the definite articl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“el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wo words “contract” to form one word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”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….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ll other definite articles they stay as two separat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el parque.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 t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os par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1066680" y="38098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116600" y="3809880"/>
            <a:ext cx="21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y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265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VERBOS IR, DAR, 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08:02Z</dcterms:created>
  <dc:creator>Helen Zumaeta</dc:creator>
  <dc:description/>
  <dc:language>en-US</dc:language>
  <cp:lastModifiedBy>Helen Zumaeta</cp:lastModifiedBy>
  <dcterms:modified xsi:type="dcterms:W3CDTF">2014-09-18T19:55:01Z</dcterms:modified>
  <cp:revision>6</cp:revision>
  <dc:subject/>
  <dc:title>Me llamo _______ Clase 6nh/im La fecha es el 24 de enero del 2011</dc:title>
</cp:coreProperties>
</file>